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CB1-38C8-4FB0-AD71-E1BC66C5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983-C52E-4976-B92E-5F95CCC1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EAC-9EF2-4596-8705-EDDC61AC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1B3-CC04-4978-8E0E-03E8F170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F4C1-3B85-4DC6-BBEE-F6331D11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52C2-65D7-478C-8DCA-28E72913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FF07-05C4-4E48-9400-36923373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54EA-8DA0-4214-86C2-56B5E9FC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0316-0D96-4477-99A3-1A79A87C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2324-0B89-4840-B934-434936A5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A099-3B9A-477B-8DA6-F278E7DC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9D3-BE46-4972-9D52-D4A46EC0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3F74-F3D3-4014-8916-1F18EE98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E15F-0C8F-4B2D-AF2D-17D8A15C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2192-2B5C-4001-94D6-BFBA21AC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B068-3A25-4013-AB08-7D6F32DD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CDC0-1C7D-48F1-931E-ADE40B59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CCF-ADCE-4387-A3BB-B6C079A8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F570-9966-4B12-9195-F43F6183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1804-C9C1-4638-819E-488AED8A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ADC-EF75-4870-B1AD-12356039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12F-506A-4D39-808D-AF70843C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931B-BA9C-464C-AC13-9AC4FB35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A6E-1D03-404D-ABB0-47F0EBBB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AECD-A345-4A45-BB80-82018B6136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3561-48B7-411E-B8A1-AE561E6C6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39640" y="189000"/>
            <a:ext cx="4105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9d9ff"/>
                </a:solidFill>
                <a:uFillTx/>
                <a:latin typeface="Comic Sans MS"/>
              </a:rPr>
              <a:t>Croesi’r afon</a:t>
            </a: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43280"/>
            <a:ext cx="776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Mr Waters a’i efeilliaid, Dan a Jan, angen croes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fon mewn canw. Gall y canw ddal pwysau o 100 k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3284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t mae’r tri yn gallu croesi’r afon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1747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Mr Waters yn pwyso 80 kg, a Dan a Jan yn pwyso 50 kg yr 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309564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7:13:29Z</dcterms:created>
  <dc:creator>Carwyn</dc:creator>
  <dc:description/>
  <dc:language>en-US</dc:language>
  <cp:lastModifiedBy>Carwyn</cp:lastModifiedBy>
  <dcterms:modified xsi:type="dcterms:W3CDTF">2008-12-08T12:11:49Z</dcterms:modified>
  <cp:revision>4</cp:revision>
  <dc:subject/>
  <dc:title>Croesi’r afon</dc:title>
</cp:coreProperties>
</file>